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3E56-44B6-47D8-A405-45E12E38201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098F-CB9C-4B10-A349-5D5819571CA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FAC54-21BF-48C7-9D7D-02C85D5764A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FC771-DABF-4E87-9AD0-E1BEAE8BCB9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2BF5-08D1-44D6-B095-0878769AC88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F2EB50-94EC-42A1-BCDD-0BB6040819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C13CB-64E1-41B6-B9E6-9BFEC1AE05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C273-B151-47AB-8645-EB9905F7A0D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CDACE-5D76-47D6-B27E-ADF95BA6A71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B586B-CD8D-4D73-974B-765F93F92F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E7D5E-57D2-4C2A-92CC-B328B853CAF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AB149-1378-4727-80F9-3A6B359B0F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D2770-A528-43C0-93E5-0DABF1CC446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095EF-92E4-4889-9A66-D9449D3723A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EF239-1BEF-4E1D-8691-37BFC1FDCDE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CE36F8-4618-49A9-846A-507AF7C41FF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8D687-AE5E-49C0-A585-25406221162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01E7DA-D866-46C3-BD13-51CEF02C3A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B23B0-F315-4344-B3B6-710420A300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2CBCB-4385-4931-9EB7-68E6EDF752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77AB5-E303-4BB0-A088-59CE3B55DA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9DD5F-CE6C-4364-9042-0DD4121308B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7C2BB-6B50-48E1-B783-D130599D624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A4CA5-9DA8-4082-B9AA-803BC0E754A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9E6DE-2C98-4817-9E3E-E25FD2F791E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E5F6E-5F91-4AD1-9418-9961FC4D4D4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A83DC-F108-47BD-AE68-76F58E58C1B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84A5F-EB7F-4094-8121-D6A5B6CE525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0BD0-4672-42CA-9EA0-97F0E5ECD6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8ED53-A868-4EA1-B539-B6544F27F5B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2D8DF4-6BC4-41D8-8770-52272B5BC9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288BC-5B0A-4C14-8FD1-A09B25279D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A4695E-D62E-4F3F-9289-ED94C15D4E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EBD7B-E587-49AD-B1D7-F4310E54D6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38637-A698-4A7E-9746-7831BD56DAF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3FC9F-08E7-47D0-B062-3660F62264B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67DE8-DD84-4657-857C-F017CC6EAA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B591A-8CD7-4CFE-B1B9-03A23914149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14035-2006-4407-A75A-BEFA823AB31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60FA-9297-4FE1-8A73-7C7939F60B3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B10DE-133C-44E4-8CBA-AB3854A54A9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DD06D-DE8B-47DF-8BB8-5FF8D005AA3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3332D-17A3-412B-BA79-0FEB4DFD87D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42CFC3-A34F-464A-A0F2-5B649B66F7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008C60-6935-4D6E-9E8A-49739B1A6FD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6403C-0B3E-4D6D-A2B4-81C2EE66828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4C7FF-CCA0-47B6-A159-929E2C12AAF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68B38-989B-41EB-863A-A0517070F83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630AE-C6E0-487D-876B-C9894642E8C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DBF43B-9789-4F17-A063-0C62376C34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0A1974-0467-40E7-94C8-2B4D40D3C9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30B0F5-14BE-43A6-8580-E87B8038A9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76A4B7-9F17-46C5-81F4-2928D9F7EE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95DEA2-FF9C-4B80-95C3-632BD12E624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58B2EF-B8AC-4E5F-BFED-56B83FBB02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3A9AF8-DCC4-4D1E-A0A5-7079947425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1AB524-82DA-4317-9AE1-7BA818662B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3C6E912-9948-4C3A-8238-0556784A23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CA6570-87F0-4BDB-A383-4B25D35E16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4CFB26-E3B4-42C9-9473-23CAEA707B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C4826-FA02-47FE-9872-08FBA04865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7BB627-9D72-4300-B5A5-DC97A82077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6B553-911A-43B0-BA10-3A7643D6D2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C31F60-5BC3-42C7-938B-43569BF426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444AEF-EC7F-43D7-9925-70631CC4EC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F50F6D-1E90-49DF-9E3A-C6B59FA8C8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5DA25E-477C-4D53-9015-8C134B005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716531-EF25-4FFF-93F0-9725B460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09C9AD-3CD7-4490-89EA-E2C342A51D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B32D9-6953-4B85-BB1F-09CED9983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A01A9-0BDC-4E09-9858-2ADA0402A9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F356F-20E8-4438-A3E5-9E7AC13B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7AEE1-C8D0-4C1B-99CA-EB49E72841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80CCB-78E7-4677-8231-CD26347A51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ABF7D-5E46-4430-AAB7-CFB1A26F0BE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hyperlink" Target="http://classtools.net/main_area/template_loader.php/?fruit_machine"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asfl.intand.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makeadifferencemovie.com/" TargetMode="External"/><Relationship Id="rId2" Type="http://schemas.openxmlformats.org/officeDocument/2006/relationships/hyperlink" Target="http://www.dallasisd.org/keynote.ht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666880"/>
            <a:ext cx="7696080" cy="10670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Jokerman"/>
              </a:rPr>
              <a:t>Welcome Back</a:t>
            </a:r>
            <a:br>
              <a:rPr sz="4800"/>
            </a:br>
            <a:r>
              <a:rPr b="1" lang="en-US" sz="4800" spc="-1" strike="noStrike">
                <a:solidFill>
                  <a:srgbClr val="b9efee"/>
                </a:solidFill>
                <a:latin typeface="Jokerman"/>
              </a:rPr>
              <a:t>Teachers and Staff!</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SFL</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Faculty Meeting</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ugust 5, 2009</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23" name="Picture 4" descr="top_children"/>
          <p:cNvPicPr/>
          <p:nvPr/>
        </p:nvPicPr>
        <p:blipFill>
          <a:blip r:embed="rId1"/>
          <a:stretch/>
        </p:blipFill>
        <p:spPr>
          <a:xfrm>
            <a:off x="609480" y="380880"/>
            <a:ext cx="7925040" cy="182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 should be an extension of classroom instruction. See HCS Policy.</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mework - Homework should not be given during state testing or on PTA nights when students are expected to attend.</a:t>
            </a:r>
            <a:r>
              <a:rPr b="0" lang="en-US" sz="3200" spc="-1" strike="noStrike">
                <a:solidFill>
                  <a:srgbClr val="ffffff"/>
                </a:solidFill>
                <a:latin typeface="Garamond"/>
              </a:rPr>
              <a:t> </a:t>
            </a: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ipline – Teachers are expected to maintain a safe and orderly classroom at all times. To minimize discipline issues, make sure you are prepared everyday.</a:t>
            </a:r>
            <a:endParaRPr b="0" lang="en-US" sz="3200" spc="-1" strike="noStrike">
              <a:solidFill>
                <a:srgbClr val="ffffff"/>
              </a:solidFill>
              <a:latin typeface="Garamond"/>
            </a:endParaRPr>
          </a:p>
          <a:p>
            <a:pPr marL="291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son plans must be kept in a red 3-ring binder on top of your desk.</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SFL Library has a schedule for grades K-5; all other grade levels are on a flex schedule.</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achers may leave the classroom during the scheduled group counseling sess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re hall passes for all children. Students may use hall passes in planner.</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ducation is a required subject and must be treated as such. Do not keep students in the classroom during PE to be helpe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ss – K-5 students should have a recess period for about 15 minutes at least twice a week.</a:t>
            </a:r>
            <a:endParaRPr b="0" lang="en-US" sz="3200" spc="-1" strike="noStrike">
              <a:solidFill>
                <a:srgbClr val="ffffff"/>
              </a:solidFill>
              <a:latin typeface="Garamond"/>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Cards – Report cards are issued every nine weeks. All teachers must report progress of students on the STI program every three week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s to parents are required for all students every three weeks. – Page 17; These will be printed from the offic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Communication!</a:t>
            </a:r>
            <a:endParaRPr b="0" lang="en-US" sz="3200" spc="-1" strike="noStrike">
              <a:solidFill>
                <a:srgbClr val="ffffff"/>
              </a:solidFill>
              <a:latin typeface="Garamond"/>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videos should be approved by the principal and correlate to units of stud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deos should not be used routinely for entertainment. They may be used as a reward on occasion with prior approval from the principal.</a:t>
            </a:r>
            <a:endParaRPr b="0" lang="en-US" sz="3200" spc="-1" strike="noStrike">
              <a:solidFill>
                <a:srgbClr val="ffffff"/>
              </a:solidFill>
              <a:latin typeface="Garamond"/>
            </a:endParaRPr>
          </a:p>
        </p:txBody>
      </p:sp>
    </p:spTree>
  </p:cSld>
  <p:transition spd="slow">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 </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feteria – Send your lunch count to the office in the communication folder by 8:20 A.M. dail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 phones – Please refrain from using your cell phone during instructional time, in the hallways, and in the presence of students. Page 22</a:t>
            </a:r>
            <a:endParaRPr b="0" lang="en-US" sz="3200" spc="-1" strike="noStrike">
              <a:solidFill>
                <a:srgbClr val="ffffff"/>
              </a:solidFill>
              <a:latin typeface="Garamond"/>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Appearance – Classrooms should be visible at all times. Doors, windows, etc. should not be covered with any type of material impairing the ability to see into the classroo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er – A copier is located in the middle school work room. Training will be provided.</a:t>
            </a:r>
            <a:endParaRPr b="0" lang="en-US" sz="3200" spc="-1" strike="noStrike">
              <a:solidFill>
                <a:srgbClr val="ffffff"/>
              </a:solidFill>
              <a:latin typeface="Garamond"/>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 the directives from the facilities department, all refrigerators and microwaves must be removed from the classrooms effective immediatel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acher’s lounge has a refrigerator and microwave.  All containers should be cleaned and taken home after use.  </a:t>
            </a:r>
            <a:r>
              <a:rPr b="0" lang="en-US" sz="3200" spc="-1" strike="noStrike">
                <a:solidFill>
                  <a:srgbClr val="ffff00"/>
                </a:solidFill>
                <a:latin typeface="Garamond"/>
              </a:rPr>
              <a:t>The refrigerators need to be cleaned out every Frida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stodians – ASFL has one daytime and three evening custodians who have been assigned a particular area to clean.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s a problem with the way the room is cleaned, please contact the custodian assigned to your area first. If the problem persists, discuss it with Mr. Turner.</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s are expected to maintain a neat and orderly classroom by keeping their own desks and storage areas well-organized.</a:t>
            </a:r>
            <a:endParaRPr b="0" lang="en-US" sz="2800" spc="-1" strike="noStrike">
              <a:solidFill>
                <a:srgbClr val="ffffff"/>
              </a:solidFill>
              <a:latin typeface="Garamond"/>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82000"/>
          </a:bodyPr>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lassroom that is bright, colorful, and child-centered sets the stage for educational success.  It should reflect current units of study and serve as a display area for student work. Please discard any items that haven’t been used for the last couple of years. </a:t>
            </a:r>
            <a:endParaRPr b="0" lang="en-US" sz="2800" spc="-1" strike="noStrike">
              <a:solidFill>
                <a:srgbClr val="ffffff"/>
              </a:solidFill>
              <a:latin typeface="Garamond"/>
            </a:endParaRPr>
          </a:p>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eachers are expected to maintain a neat and orderly classroom by keeping their own desks and storage areas well-organized.</a:t>
            </a:r>
            <a:r>
              <a:rPr b="0" lang="en-US" sz="2800" spc="-1" strike="noStrike">
                <a:solidFill>
                  <a:srgbClr val="ffffff"/>
                </a:solidFill>
                <a:latin typeface="Garamond"/>
              </a:rPr>
              <a:t>  Students should be instructed on how to keep desks, centers, bookshelves, and counters neat.  Students’ desk should be cleaned out weekly.  Each teacher should establish a routine for keeping the room tidy.  At the conclusion of each day, the classroom should be clean and ready for school to begin the following day.</a:t>
            </a:r>
            <a:endParaRPr b="0" lang="en-US" sz="2800" spc="-1" strike="noStrike">
              <a:solidFill>
                <a:srgbClr val="ffffff"/>
              </a:solidFill>
              <a:latin typeface="Garamond"/>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gend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come/Ice Breaker/Introduce New Staff Member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Faculty Handbook</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tiality Power Point</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Dat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based Calenda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ess Cod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B Candidate Schoo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Order – If you need something repaired in your classroom, please send an e-mail to Denise. She will send in a work orde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ors – The doors outside the front office will be opened at 7:30 a.m. daily. Each teacher has a magnetic key to access the building. Please make sure the door closes when you exit the building.</a:t>
            </a:r>
            <a:endParaRPr b="0" lang="en-US" sz="3200" spc="-1" strike="noStrike">
              <a:solidFill>
                <a:srgbClr val="ffffff"/>
              </a:solidFill>
              <a:latin typeface="Garamond"/>
            </a:endParaRPr>
          </a:p>
        </p:txBody>
      </p:sp>
    </p:spTree>
  </p:cSld>
  <p:transition spd="slow">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achers will sit with and supervise students </a:t>
            </a:r>
            <a:r>
              <a:rPr b="0" lang="en-US" sz="3200" spc="-1" strike="noStrike">
                <a:solidFill>
                  <a:srgbClr val="ffffff"/>
                </a:solidFill>
                <a:latin typeface="Garamond"/>
              </a:rPr>
              <a:t>until such time as the children exhibit good table manners and quiet speaking voices. Teachers may sit together only in such a manner that his or her students are supervised. You may not sit with your back to any of (your) students. </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lking is permitted in the lunchroom. However, supervision must be in place at all times to help maintain a pleasant dining are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afety/Health</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the diagram of the fire and tornado plan is posted in your classroom by the door. Please review this information with your students on the first da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e drills will be held monthl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room – Children who have a temperature of 100 degrees must be sent home. </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students must have a pass in order to enter the health room.</a:t>
            </a:r>
            <a:endParaRPr b="0" lang="en-US" sz="2800" spc="-1" strike="noStrike">
              <a:solidFill>
                <a:srgbClr val="ffffff"/>
              </a:solidFill>
              <a:latin typeface="Garamond"/>
            </a:endParaRPr>
          </a:p>
          <a:p>
            <a:pPr marL="315360" indent="-31536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Students are not to have prescription or non-prescription medication in their</a:t>
            </a: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        </a:t>
            </a:r>
            <a:r>
              <a:rPr b="1" lang="en-US" sz="1400" spc="-1" strike="noStrike">
                <a:solidFill>
                  <a:srgbClr val="ffff00"/>
                </a:solidFill>
                <a:latin typeface="Garamond"/>
              </a:rPr>
              <a:t>possession during school hours, on school premises, or school buses, or at school sponsored events and field trips away from school. </a:t>
            </a:r>
            <a:endParaRPr b="0" lang="en-US" sz="1400" spc="-1" strike="noStrike">
              <a:solidFill>
                <a:srgbClr val="ffffff"/>
              </a:solidFill>
              <a:latin typeface="Garamond"/>
            </a:endParaRPr>
          </a:p>
          <a:p>
            <a:pPr marL="315360" indent="-3153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fety Patrol – Babs and Janna, Sponsors</a:t>
            </a:r>
            <a:endParaRPr b="0" lang="en-US" sz="2000" spc="-1" strike="noStrike">
              <a:solidFill>
                <a:srgbClr val="ffffff"/>
              </a:solidFill>
              <a:latin typeface="Garamond"/>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ments will be broadcast each morning at 8:10 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dge of Allegiance (Attention, Salute, Pledge), Moment of Silence,  Announcements, Character Education Message </a:t>
            </a:r>
            <a:endParaRPr b="0" lang="en-US" sz="3200" spc="-1" strike="noStrike">
              <a:solidFill>
                <a:srgbClr val="ffffff"/>
              </a:solidFill>
              <a:latin typeface="Garamond"/>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ion of Money – numbered receipt pages will be issued from the office when a teacher is collecting fees from students.</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money received must be receipted on the appropriate forms and turned into the office by 1:00 P.M. – Page 3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Bus Charges (may change)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ffective July 1, 2008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own $1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t of Town $265.00-5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rges are from the terminal to the terminal, and are approximate until actual billing.</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ferences – One formal and one informal conference is required for each student each year; Parenting Day in October; Student-Led Conferences- start preparing now</a:t>
            </a:r>
            <a:endParaRPr b="0" lang="en-US" sz="2400" spc="-1" strike="noStrike">
              <a:solidFill>
                <a:srgbClr val="ffffff"/>
              </a:solidFill>
              <a:latin typeface="Garamond"/>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mulative records – located in Bernadette’s Office; cumulative records must remain at school. They should be returned to the file by the end of the day and should not be kept in classrooms.</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RPA (Confidentiality Power Point)</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missal – The school day ends at 3:10 P.M.</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dismiss walkers, bus riders, car riders, and extended day. </a:t>
            </a:r>
            <a:r>
              <a:rPr b="0" lang="en-US" sz="3200" spc="-1" strike="noStrike">
                <a:solidFill>
                  <a:srgbClr val="ffffff"/>
                </a:solidFill>
                <a:latin typeface="Garamond"/>
              </a:rPr>
              <a:t>Please have someone in your grade level, hallway, etc. responsible in escorting each group of students, i.e. walkers, bus rid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level meetings should be held at least once a week. A form for minutes is included in your handbook.</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ch – Teachers must sit with students during the lunch period. It is acceptable for a colleague to join you at your designated lunch table; however, you must be able to see your students at all times.</a:t>
            </a:r>
            <a:endParaRPr b="0" lang="en-US" sz="3200" spc="-1" strike="noStrike">
              <a:solidFill>
                <a:srgbClr val="ffffff"/>
              </a:solidFill>
              <a:latin typeface="Garamond"/>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eacher is expected to have a substitute folder available. See page 40.</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 All textbooks should be numbered and assigned to each student. If a book becomes lost, it shall be the responsibility of the student to pay for i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will be inventoried annually</a:t>
            </a:r>
            <a:r>
              <a:rPr b="0" lang="en-US" sz="2800" spc="-1" strike="noStrike">
                <a:solidFill>
                  <a:srgbClr val="ffffff"/>
                </a:solidFill>
                <a:latin typeface="Garamond"/>
              </a:rPr>
              <a: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ess reports will be sent home every three weeks. These reports will be printed from the office. STI should be updated every week with current grades. DO NOT ENTER GRADES ONCE A GRADING PERIOD!</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GRADES SHOULD BE UPDATED IN IIOD BY TUESDAY OF EACH WEEK!</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2009-2010 PTA Officers</a:t>
            </a:r>
            <a:br>
              <a:rPr sz="4400"/>
            </a:br>
            <a:endParaRPr b="1" lang="en-US" sz="4400" spc="-1" strike="noStrike">
              <a:solidFill>
                <a:srgbClr val="b9efee"/>
              </a:solidFill>
              <a:latin typeface="Garamond"/>
            </a:endParaRPr>
          </a:p>
        </p:txBody>
      </p:sp>
      <p:sp>
        <p:nvSpPr>
          <p:cNvPr id="17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sident:</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evi Harri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Membership:</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roy Garner</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Vice President of Program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Melvin Popla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Volunteer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oya Poplar</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reasurer:</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isa Berr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cretary:</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Dorothy Fletche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ittee Chair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ield Da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mpbell Soup Label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ospitality</a:t>
            </a:r>
            <a:r>
              <a:rPr b="0" lang="en-US" sz="14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are expected to be at school and in your classroom by 8:00 A.M. (Not walking in at 8:00 A.M.);</a:t>
            </a:r>
            <a:r>
              <a:rPr b="0" lang="en-US" sz="3200" spc="-1" strike="noStrike">
                <a:solidFill>
                  <a:srgbClr val="ffffff"/>
                </a:solidFill>
                <a:latin typeface="Garamond"/>
              </a:rPr>
              <a:t> </a:t>
            </a:r>
            <a:r>
              <a:rPr b="0" lang="en-US" sz="3200" spc="-1" strike="noStrike">
                <a:solidFill>
                  <a:srgbClr val="ffff00"/>
                </a:solidFill>
                <a:latin typeface="Garamond"/>
              </a:rPr>
              <a:t>Post attendance by 8:20 a.m. unless otherwise instruct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certified personnel work from an individual schedul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should sign in using the computer located in the offic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free to leave school at 3:30 each day, with the exception of Wednesday.</a:t>
            </a:r>
            <a:endParaRPr b="0" lang="en-US" sz="3200" spc="-1" strike="noStrike">
              <a:solidFill>
                <a:srgbClr val="ffffff"/>
              </a:solidFill>
              <a:latin typeface="Garamond"/>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9efee"/>
                </a:solidFill>
                <a:latin typeface="Jokerman"/>
              </a:rPr>
              <a:t>Mission</a:t>
            </a:r>
            <a:endParaRPr b="1" lang="en-US" sz="7200" spc="-1" strike="noStrike">
              <a:solidFill>
                <a:srgbClr val="b9efee"/>
              </a:solidFill>
              <a:latin typeface="Garamond"/>
            </a:endParaRPr>
          </a:p>
        </p:txBody>
      </p:sp>
      <p:sp>
        <p:nvSpPr>
          <p:cNvPr id="127" name=""/>
          <p:cNvSpPr txBox="1"/>
          <p:nvPr/>
        </p:nvSpPr>
        <p:spPr>
          <a:xfrm>
            <a:off x="457200" y="1600200"/>
            <a:ext cx="8229600" cy="4495680"/>
          </a:xfrm>
          <a:prstGeom prst="rect">
            <a:avLst/>
          </a:prstGeom>
          <a:noFill/>
          <a:ln w="0">
            <a:noFill/>
          </a:ln>
        </p:spPr>
        <p:txBody>
          <a:bodyPr anchor="t">
            <a:normAutofit fontScale="96000"/>
          </a:bodyPr>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ur mission is to create an environment where all students can learn and utilize the skills of discovery and exploration. We will motivate all students to become life-long learners through an interdisciplinary approach incorporating technology tools in which science and foreign languages reinforce other areas of the curriculum. Our teaching will incorporate research-based data so all students can achieve their full potential in a rapidly changing world.</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nesdays are set aside for faculty, grade level, IB meetings, professional learning, and other meeting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appointments and all other personal matters on another da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use the </a:t>
            </a:r>
            <a:r>
              <a:rPr b="0" lang="en-US" sz="3200" spc="-1" strike="noStrike">
                <a:solidFill>
                  <a:srgbClr val="ffff00"/>
                </a:solidFill>
                <a:latin typeface="Times New Roman"/>
              </a:rPr>
              <a:t>AESOP </a:t>
            </a:r>
            <a:r>
              <a:rPr b="0" lang="en-US" sz="3200" spc="-1" strike="noStrike">
                <a:solidFill>
                  <a:srgbClr val="ffffff"/>
                </a:solidFill>
                <a:latin typeface="Times New Roman"/>
              </a:rPr>
              <a:t>computerized system to secure a substitute for his/her classroom.</a:t>
            </a:r>
            <a:endParaRPr b="0" lang="en-US" sz="3200" spc="-1" strike="noStrike">
              <a:solidFill>
                <a:srgbClr val="ffffff"/>
              </a:solidFill>
              <a:latin typeface="Garamond"/>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personal and professional leave requests require prior approval before entering the information into AESOP. If you have scheduled classes, a sub must be secured.</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d sick leave forms must be submitted to the secretary upon return to work.</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Garamond"/>
              </a:rPr>
              <a:t>Payroll – ELECTRONIC PAY STUBS</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ess Code - please dress in an attire which exemplifies the professional status of an educator; Mondays – Khaki or navy bottom; white, navy, or light blue top; Jeans may be worn on Fridays</a:t>
            </a:r>
            <a:r>
              <a:rPr b="0" lang="en-US" sz="2800" spc="-1" strike="noStrike">
                <a:solidFill>
                  <a:srgbClr val="ffffff"/>
                </a:solidFill>
                <a:latin typeface="Garamond"/>
              </a:rPr>
              <a:t>. I would love to have a staff short/long sleeved t-shirt designed.</a:t>
            </a:r>
            <a:endParaRPr b="0" lang="en-US" sz="2800" spc="-1" strike="noStrike">
              <a:solidFill>
                <a:srgbClr val="ffffff"/>
              </a:solidFill>
              <a:latin typeface="Garamond"/>
            </a:endParaRPr>
          </a:p>
        </p:txBody>
      </p:sp>
    </p:spTree>
  </p:cSld>
  <p:transition spd="slow">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E Alabama </a:t>
            </a:r>
            <a:r>
              <a:rPr b="0" lang="en-US" sz="3200" spc="-1" strike="noStrike">
                <a:solidFill>
                  <a:srgbClr val="ffffff"/>
                </a:solidFill>
                <a:latin typeface="Times New Roman"/>
              </a:rPr>
              <a:t>– Performance evaluations will be conducted for each employee according to the plan established by the Huntsville City Schools. Individuals who are on the evaluation cycle for the 2009-2010 school year will be notified in the next week and an orientation is scheduled for early-mid September.</a:t>
            </a:r>
            <a:endParaRPr b="0" lang="en-US" sz="3200" spc="-1" strike="noStrike">
              <a:solidFill>
                <a:srgbClr val="ffffff"/>
              </a:solidFill>
              <a:latin typeface="Garamond"/>
            </a:endParaRPr>
          </a:p>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abama Teacher Code of Ethics – Admin. Code</a:t>
            </a:r>
            <a:endParaRPr b="0" lang="en-US" sz="3200" spc="-1" strike="noStrike">
              <a:solidFill>
                <a:srgbClr val="ffffff"/>
              </a:solidFill>
              <a:latin typeface="Garamond"/>
            </a:endParaRPr>
          </a:p>
        </p:txBody>
      </p:sp>
    </p:spTree>
  </p:cSld>
  <p:transition spd="slow">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leave – no more than 10% of the school certified personnel may take leave concurrently. Requests will be approved on first submitted basis.</a:t>
            </a:r>
            <a:endParaRPr b="0" lang="en-US" sz="3200" spc="-1" strike="noStrike">
              <a:solidFill>
                <a:srgbClr val="ffffff"/>
              </a:solidFill>
              <a:latin typeface="Garamond"/>
            </a:endParaRPr>
          </a:p>
          <a:p>
            <a:pPr marL="318960" indent="-3189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Growth – it is strongly recommended that each teacher keep copies of professional growth credit hours through STI and file them.</a:t>
            </a:r>
            <a:r>
              <a:rPr b="1" lang="en-US" sz="3200" spc="-1" strike="noStrike">
                <a:solidFill>
                  <a:srgbClr val="ffffff"/>
                </a:solidFill>
                <a:latin typeface="Garamond"/>
              </a:rPr>
              <a:t> </a:t>
            </a:r>
            <a:r>
              <a:rPr b="1" lang="en-US" sz="2800" spc="-1" strike="noStrike">
                <a:solidFill>
                  <a:srgbClr val="ffff00"/>
                </a:solidFill>
                <a:latin typeface="Garamond"/>
              </a:rPr>
              <a:t>EVERYONE MUST USE STI-PD TO REGISTER FOR PROFESSIONAL DEVELOPMENT ACTIVITI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A is open to all. Teachers are encouraged to attend the meetings. </a:t>
            </a:r>
            <a:r>
              <a:rPr b="0" lang="en-US" sz="2800" spc="-1" strike="noStrike">
                <a:solidFill>
                  <a:srgbClr val="ffff00"/>
                </a:solidFill>
                <a:latin typeface="Times New Roman"/>
              </a:rPr>
              <a:t>Membership cost: $6.00</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s – every teacher must submit a daily schedule to the principal and a copy should be posted outside your door. Make refer to “Expectations” from Dr. Wilson.</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ion – students must be supervised at all times. </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ease do not place students in the hallway for the purpose of discipline or time out.</a:t>
            </a:r>
            <a:endParaRPr b="0" lang="en-US" sz="2800" spc="-1" strike="noStrike">
              <a:solidFill>
                <a:srgbClr val="ffffff"/>
              </a:solidFill>
              <a:latin typeface="Garamond"/>
            </a:endParaRPr>
          </a:p>
        </p:txBody>
      </p:sp>
    </p:spTree>
  </p:cSld>
  <p:transition spd="slow">
    <p:comb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ck leave – please adhere to the sick leave policy as stated in the HCS policy manual.</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review selected policies in your faculty handbook.</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meetings will be held on Wednesdays in the library.</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eam Leaders  - Please send me the grade level leader by Friday, August 7</a:t>
            </a:r>
            <a:r>
              <a:rPr b="1" lang="en-US" sz="3200" spc="-1" strike="noStrike" u="sng" baseline="30000">
                <a:solidFill>
                  <a:srgbClr val="ffff00"/>
                </a:solidFill>
                <a:uFillTx/>
                <a:latin typeface="Garamond"/>
              </a:rPr>
              <a:t>th</a:t>
            </a:r>
            <a:r>
              <a:rPr b="1" lang="en-US" sz="3200" spc="-1" strike="noStrike" u="sng">
                <a:solidFill>
                  <a:srgbClr val="ffff00"/>
                </a:solidFill>
                <a:uFillTx/>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chedules</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s 2009-2010</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Leadership Te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ty Assignment Schedule – page 93-94</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achers will be on duty the first two days of school and the last two days of school.</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uty schedul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ter schedule</a:t>
            </a:r>
            <a:endParaRPr b="0" lang="en-US" sz="3200" spc="-1" strike="noStrike">
              <a:solidFill>
                <a:srgbClr val="ffffff"/>
              </a:solidFill>
              <a:latin typeface="Garamond"/>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Forms</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orms that you will need are located in your faculty handbook. Make copies and return master copy to handbook.</a:t>
            </a:r>
            <a:endParaRPr b="0" lang="en-US" sz="3200" spc="-1" strike="noStrike">
              <a:solidFill>
                <a:srgbClr val="ffffff"/>
              </a:solidFill>
              <a:latin typeface="Garamond"/>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19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teachers will assist with the following morning duty stations (7:30 a.m.): </a:t>
            </a:r>
            <a:r>
              <a:rPr b="0" lang="en-US" sz="2800" spc="-1" strike="noStrike">
                <a:solidFill>
                  <a:srgbClr val="ffff00"/>
                </a:solidFill>
                <a:latin typeface="Garamond"/>
              </a:rPr>
              <a:t>Bett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Babs</a:t>
            </a:r>
            <a:r>
              <a:rPr b="0" lang="en-US" sz="2800" spc="-1" strike="noStrike">
                <a:solidFill>
                  <a:srgbClr val="ffffff"/>
                </a:solidFill>
                <a:latin typeface="Garamond"/>
              </a:rPr>
              <a:t> </a:t>
            </a:r>
            <a:r>
              <a:rPr b="1" lang="en-US" sz="2800" spc="-1" strike="noStrike">
                <a:solidFill>
                  <a:srgbClr val="ffffff"/>
                </a:solidFill>
                <a:latin typeface="Garamond"/>
              </a:rPr>
              <a:t>(car</a:t>
            </a:r>
            <a:r>
              <a:rPr b="0" lang="en-US" sz="2800" spc="-1" strike="noStrike">
                <a:solidFill>
                  <a:srgbClr val="ffffff"/>
                </a:solidFill>
                <a:latin typeface="Garamond"/>
              </a:rPr>
              <a:t> </a:t>
            </a:r>
            <a:r>
              <a:rPr b="1" lang="en-US" sz="2800" spc="-1" strike="noStrike">
                <a:solidFill>
                  <a:srgbClr val="ffffff"/>
                </a:solidFill>
                <a:latin typeface="Garamond"/>
              </a:rPr>
              <a:t>riders),</a:t>
            </a:r>
            <a:r>
              <a:rPr b="0" lang="en-US" sz="2800" spc="-1" strike="noStrike">
                <a:solidFill>
                  <a:srgbClr val="ffffff"/>
                </a:solidFill>
                <a:latin typeface="Garamond"/>
              </a:rPr>
              <a:t> </a:t>
            </a:r>
            <a:r>
              <a:rPr b="0" lang="en-US" sz="2800" spc="-1" strike="noStrike">
                <a:solidFill>
                  <a:srgbClr val="ffff00"/>
                </a:solidFill>
                <a:latin typeface="Garamond"/>
              </a:rPr>
              <a:t>Carlos</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a:t>
            </a:r>
            <a:r>
              <a:rPr b="0" lang="en-US" sz="2800" spc="-1" strike="noStrike">
                <a:solidFill>
                  <a:srgbClr val="ffff00"/>
                </a:solidFill>
                <a:latin typeface="Garamond"/>
              </a:rPr>
              <a:t>Regin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Tavares</a:t>
            </a:r>
            <a:r>
              <a:rPr b="0" lang="en-US" sz="2800" spc="-1" strike="noStrike">
                <a:solidFill>
                  <a:srgbClr val="ffffff"/>
                </a:solidFill>
                <a:latin typeface="Garamond"/>
              </a:rPr>
              <a:t> </a:t>
            </a:r>
            <a:r>
              <a:rPr b="1" lang="en-US" sz="2800" spc="-1" strike="noStrike">
                <a:solidFill>
                  <a:srgbClr val="ffffff"/>
                </a:solidFill>
                <a:latin typeface="Garamond"/>
              </a:rPr>
              <a:t>(computer lab and students waiting in line for Snack Shack),</a:t>
            </a:r>
            <a:r>
              <a:rPr b="0" lang="en-US" sz="2800" spc="-1" strike="noStrike">
                <a:solidFill>
                  <a:srgbClr val="ffffff"/>
                </a:solidFill>
                <a:latin typeface="Garamond"/>
              </a:rPr>
              <a:t> </a:t>
            </a:r>
            <a:r>
              <a:rPr b="0" lang="en-US" sz="2800" spc="-1" strike="noStrike">
                <a:solidFill>
                  <a:srgbClr val="ffff00"/>
                </a:solidFill>
                <a:latin typeface="Garamond"/>
              </a:rPr>
              <a:t>Suzie</a:t>
            </a:r>
            <a:r>
              <a:rPr b="0" lang="en-US" sz="2800" spc="-1" strike="noStrike">
                <a:solidFill>
                  <a:srgbClr val="ffffff"/>
                </a:solidFill>
                <a:latin typeface="Garamond"/>
              </a:rPr>
              <a:t> </a:t>
            </a:r>
            <a:r>
              <a:rPr b="1" lang="en-US" sz="2800" spc="-1" strike="noStrike">
                <a:solidFill>
                  <a:srgbClr val="ffffff"/>
                </a:solidFill>
                <a:latin typeface="Garamond"/>
              </a:rPr>
              <a:t>(Intersection of 4</a:t>
            </a:r>
            <a:r>
              <a:rPr b="1" lang="en-US" sz="2800" spc="-1" strike="noStrike" baseline="30000">
                <a:solidFill>
                  <a:srgbClr val="ffffff"/>
                </a:solidFill>
                <a:latin typeface="Garamond"/>
              </a:rPr>
              <a:t>th</a:t>
            </a:r>
            <a:r>
              <a:rPr b="1" lang="en-US" sz="2800" spc="-1" strike="noStrike">
                <a:solidFill>
                  <a:srgbClr val="ffffff"/>
                </a:solidFill>
                <a:latin typeface="Garamond"/>
              </a:rPr>
              <a:t>-5</a:t>
            </a:r>
            <a:r>
              <a:rPr b="1" lang="en-US" sz="2800" spc="-1" strike="noStrike" baseline="30000">
                <a:solidFill>
                  <a:srgbClr val="ffffff"/>
                </a:solidFill>
                <a:latin typeface="Garamond"/>
              </a:rPr>
              <a:t>th</a:t>
            </a:r>
            <a:r>
              <a:rPr b="1" lang="en-US" sz="2800" spc="-1" strike="noStrike">
                <a:solidFill>
                  <a:srgbClr val="ffffff"/>
                </a:solidFill>
                <a:latin typeface="Garamond"/>
              </a:rPr>
              <a:t> and main hallway; monitor line and noise level of students waiting to make a purchase from the Snack Shack)</a:t>
            </a:r>
            <a:r>
              <a:rPr b="0" lang="en-US" sz="2800" spc="-1" strike="noStrike">
                <a:solidFill>
                  <a:srgbClr val="ffffff"/>
                </a:solidFill>
                <a:latin typeface="Garamond"/>
              </a:rPr>
              <a:t>, </a:t>
            </a:r>
            <a:r>
              <a:rPr b="0" lang="en-US" sz="2800" spc="-1" strike="noStrike">
                <a:solidFill>
                  <a:srgbClr val="ffff00"/>
                </a:solidFill>
                <a:latin typeface="Garamond"/>
              </a:rPr>
              <a:t>Shelb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Angel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Michelle</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nd </a:t>
            </a:r>
            <a:r>
              <a:rPr b="0" lang="en-US" sz="2800" spc="-1" strike="noStrike">
                <a:solidFill>
                  <a:srgbClr val="ffff00"/>
                </a:solidFill>
                <a:latin typeface="Garamond"/>
              </a:rPr>
              <a:t>Sherry</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Teachers assigned to permanent duty will be allowed to leave at the last bell.</a:t>
            </a:r>
            <a:endParaRPr b="0" lang="en-US" sz="2800" spc="-1" strike="noStrike">
              <a:solidFill>
                <a:srgbClr val="ffffff"/>
              </a:solidFill>
              <a:latin typeface="Garamond"/>
            </a:endParaRPr>
          </a:p>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graphicFrame>
        <p:nvGraphicFramePr>
          <p:cNvPr id="199" name=""/>
          <p:cNvGraphicFramePr/>
          <p:nvPr/>
        </p:nvGraphicFramePr>
        <p:xfrm>
          <a:off x="457200" y="1600200"/>
          <a:ext cx="8229600" cy="370836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n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u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dn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ur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ri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Nanc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irgin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esl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da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mb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esire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io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thon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an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ore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Mar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Elisabeth</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ama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us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Heath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u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 Rememb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www.online-stopwatch.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classtools.net/main_area/template_loader.php/?fruit_machin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201"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duty team is to meet by August 7 and decide a team captain and review duty rotations for stations and late duty.  Have a school calendar handy. Submit duty schedule to Mrs. Summerville by </a:t>
            </a:r>
            <a:r>
              <a:rPr b="0" lang="en-US" sz="3200" spc="-1" strike="noStrike">
                <a:solidFill>
                  <a:srgbClr val="ffff00"/>
                </a:solidFill>
                <a:latin typeface="Garamond"/>
              </a:rPr>
              <a:t>Monday, August 10</a:t>
            </a:r>
            <a:r>
              <a:rPr b="0" lang="en-US" sz="3200" spc="-1" strike="noStrike">
                <a:solidFill>
                  <a:srgbClr val="ffffff"/>
                </a:solidFill>
                <a:latin typeface="Garamond"/>
              </a:rPr>
              <a:t>. The Late Duty assignment means that one teacher per team will stay with children left until 3:45 P.M.  At 3:45 the “leftovers” will come into the front foyer to wait for pickup. The office staff will take assist after 3:45 p.m.</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BBSST</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ommittee will meet on Mondays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or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Period.</a:t>
            </a:r>
            <a:endParaRPr b="0" lang="en-US" sz="3200" spc="-1" strike="noStrike">
              <a:solidFill>
                <a:srgbClr val="ffffff"/>
              </a:solidFill>
              <a:latin typeface="Garamond"/>
            </a:endParaRPr>
          </a:p>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riteria for referring students to the BBSST committee hasn’t changed for the 09-10 school year</a:t>
            </a:r>
            <a:r>
              <a:rPr b="0" lang="en-US"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will be provided</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rals due to Regina by September 4, 2009; ARMT Levels I and II; </a:t>
            </a:r>
            <a:r>
              <a:rPr b="0" i="1" lang="en-US" sz="3200" spc="-1" strike="noStrike">
                <a:solidFill>
                  <a:srgbClr val="ffffff"/>
                </a:solidFill>
                <a:latin typeface="Garamond"/>
              </a:rPr>
              <a:t>Successmaker  Sessions as BBSST intervention</a:t>
            </a:r>
            <a:endParaRPr b="0" lang="en-US" sz="3200" spc="-1" strike="noStrike">
              <a:solidFill>
                <a:srgbClr val="ffffff"/>
              </a:solidFill>
              <a:latin typeface="Garamond"/>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ject Wisdom</a:t>
            </a:r>
            <a:endParaRPr b="1" lang="en-US" sz="4400" spc="-1" strike="noStrike">
              <a:solidFill>
                <a:srgbClr val="b9efee"/>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think about various students being featured on the morning broadcast?</a:t>
            </a:r>
            <a:endParaRPr b="0" lang="en-US" sz="3200" spc="-1" strike="noStrike">
              <a:solidFill>
                <a:srgbClr val="ffffff"/>
              </a:solidFill>
              <a:latin typeface="Garamond"/>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Web-based Calendar</a:t>
            </a:r>
            <a:endParaRPr b="1" lang="en-US" sz="4400" spc="-1" strike="noStrike">
              <a:solidFill>
                <a:srgbClr val="b9efee"/>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asfl.intand.c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ease make sure you sign up to receive update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room reservations should be sent to Jennifer, i.e. computer lab, media center, conference ro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level/class activities, field trips, etc. should also be sent to Jennifer to post on the calendar.</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o place the icon on your desk to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ETV</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two students and a teacher to produce script, “Why My School Is Spe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than 2-3 minut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Script avail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International Baccalaureate </a:t>
            </a:r>
            <a:endParaRPr b="1" lang="en-US" sz="4400" spc="-1" strike="noStrike">
              <a:solidFill>
                <a:srgbClr val="b9efee"/>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ssemb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10, 2009</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0 P.M. in Gymnas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ssessment Data</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ring 2009</a:t>
            </a:r>
            <a:endParaRPr b="0" lang="en-US" sz="3200" spc="-1" strike="noStrike">
              <a:solidFill>
                <a:srgbClr val="ffffff"/>
              </a:solidFill>
              <a:latin typeface="Garamond"/>
            </a:endParaRPr>
          </a:p>
        </p:txBody>
      </p:sp>
    </p:spTree>
  </p:cSld>
  <p:transition spd="slow">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Remembering Why You Teach</a:t>
            </a:r>
            <a:endParaRPr b="1" lang="en-US" sz="4400" spc="-1" strike="noStrike">
              <a:solidFill>
                <a:srgbClr val="b9efee"/>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www.Mak eaDifferenceMovie.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dallasisd.org/keynote.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ave a Great Year!</a:t>
            </a:r>
            <a:br>
              <a:rPr sz="4000"/>
            </a:br>
            <a:br>
              <a:rPr sz="4000"/>
            </a:br>
            <a:br>
              <a:rPr sz="4000"/>
            </a:br>
            <a:br>
              <a:rPr sz="4000"/>
            </a:br>
            <a:br>
              <a:rPr sz="4000"/>
            </a:br>
            <a:br>
              <a:rPr sz="4000"/>
            </a:br>
            <a:r>
              <a:rPr b="1" lang="en-US" sz="6000" spc="-1" strike="noStrike">
                <a:solidFill>
                  <a:srgbClr val="efb9eb"/>
                </a:solidFill>
                <a:latin typeface="Jokerman"/>
              </a:rPr>
              <a:t>Have a Great Year!</a:t>
            </a:r>
            <a:br>
              <a:rPr sz="6000"/>
            </a:br>
            <a:br>
              <a:rPr sz="4000"/>
            </a:br>
            <a:r>
              <a:rPr b="1" lang="en-US" sz="5400" spc="-1" strike="noStrike">
                <a:solidFill>
                  <a:srgbClr val="efb9eb"/>
                </a:solidFill>
                <a:latin typeface="Jokerman"/>
              </a:rPr>
              <a:t>T</a:t>
            </a:r>
            <a:r>
              <a:rPr b="1" lang="en-US" sz="5400" spc="-1" strike="noStrike">
                <a:solidFill>
                  <a:srgbClr val="b9efee"/>
                </a:solidFill>
                <a:latin typeface="Jokerman"/>
              </a:rPr>
              <a:t>ogether</a:t>
            </a:r>
            <a:br>
              <a:rPr sz="5400"/>
            </a:br>
            <a:r>
              <a:rPr b="1" lang="en-US" sz="5400" spc="-1" strike="noStrike">
                <a:solidFill>
                  <a:srgbClr val="efb9eb"/>
                </a:solidFill>
                <a:latin typeface="Jokerman"/>
              </a:rPr>
              <a:t>E</a:t>
            </a:r>
            <a:r>
              <a:rPr b="1" lang="en-US" sz="5400" spc="-1" strike="noStrike">
                <a:solidFill>
                  <a:srgbClr val="b9efee"/>
                </a:solidFill>
                <a:latin typeface="Jokerman"/>
              </a:rPr>
              <a:t>veryone</a:t>
            </a:r>
            <a:br>
              <a:rPr sz="5400"/>
            </a:br>
            <a:r>
              <a:rPr b="1" lang="en-US" sz="5400" spc="-1" strike="noStrike">
                <a:solidFill>
                  <a:srgbClr val="efb9eb"/>
                </a:solidFill>
                <a:latin typeface="Jokerman"/>
              </a:rPr>
              <a:t>A</a:t>
            </a:r>
            <a:r>
              <a:rPr b="1" lang="en-US" sz="5400" spc="-1" strike="noStrike">
                <a:solidFill>
                  <a:srgbClr val="b9efee"/>
                </a:solidFill>
                <a:latin typeface="Jokerman"/>
              </a:rPr>
              <a:t>chieves</a:t>
            </a:r>
            <a:br>
              <a:rPr sz="5400"/>
            </a:br>
            <a:r>
              <a:rPr b="1" lang="en-US" sz="5400" spc="-1" strike="noStrike">
                <a:solidFill>
                  <a:srgbClr val="efb9eb"/>
                </a:solidFill>
                <a:latin typeface="Jokerman"/>
              </a:rPr>
              <a:t>M</a:t>
            </a:r>
            <a:r>
              <a:rPr b="1" lang="en-US" sz="5400" spc="-1" strike="noStrike">
                <a:solidFill>
                  <a:srgbClr val="b9efee"/>
                </a:solidFill>
                <a:latin typeface="Jokerman"/>
              </a:rPr>
              <a:t>ore</a:t>
            </a:r>
            <a:endParaRPr b="1" lang="en-US" sz="5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Staff Members </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hony Daniels,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rei Velazco, 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Queeney, Guidance Counselo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Foos – Element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Byas – Second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hy Eldredge – Clerical Assistan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is Marcial – Spanish </a:t>
            </a:r>
            <a:endParaRPr b="0" lang="en-US" sz="3200" spc="-1" strike="noStrike">
              <a:solidFill>
                <a:srgbClr val="ffffff"/>
              </a:solidFill>
              <a:latin typeface="Garamond"/>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s – Make sure your bulletin boards are updated regularly. Please alternate by planning a rotation.</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sure students have a hall pass when leaving your classroom.</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 Trips – information copied for you; please adhere to the requests of nursing department; Field trips should be relevant to the grade level curriculum; </a:t>
            </a:r>
            <a:r>
              <a:rPr b="0" lang="en-US" sz="3200" spc="-1" strike="noStrike">
                <a:solidFill>
                  <a:srgbClr val="ffffff"/>
                </a:solidFill>
                <a:latin typeface="Garamond"/>
              </a:rPr>
              <a:t>Give three weeks notice to the CNP Manager.</a:t>
            </a:r>
            <a:r>
              <a:rPr b="0" lang="en-US" sz="3200" spc="-1" strike="noStrike">
                <a:solidFill>
                  <a:srgbClr val="ffffff"/>
                </a:solidFill>
                <a:latin typeface="Garamond"/>
              </a:rPr>
              <a:t> </a:t>
            </a:r>
            <a:r>
              <a:rPr b="1" i="1" lang="en-US" sz="3200" spc="-1" strike="noStrike">
                <a:solidFill>
                  <a:srgbClr val="ffffff"/>
                </a:solidFill>
                <a:latin typeface="Garamond"/>
              </a:rPr>
              <a:t>No trips the last week of school</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Assignments</a:t>
            </a:r>
            <a:endParaRPr b="1" lang="en-US" sz="4400" spc="-1" strike="noStrike">
              <a:solidFill>
                <a:srgbClr val="b9efee"/>
              </a:solidFill>
              <a:latin typeface="Garamond"/>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y Kostencki – Reading Co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one Jordan – Kindergarte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sabeth Johnson – 5</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anne Maddox – 6</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ield Trips – 4 Weeks Notice Will Be Enforced</a:t>
            </a:r>
            <a:r>
              <a:rPr b="1"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monies for field trips should be turned in to the office two weeks prior to the field trip in order for a check to be requested from accounts payable.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No trips after the second Friday in May.</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three weeks notice to the CNP Manag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9" name="PlaceHolder 2"/>
          <p:cNvSpPr>
            <a:spLocks noGrp="1"/>
          </p:cNvSpPr>
          <p:nvPr>
            <p:ph/>
          </p:nvPr>
        </p:nvSpPr>
        <p:spPr>
          <a:xfrm>
            <a:off x="380880" y="1600200"/>
            <a:ext cx="8305920" cy="49528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s of Study and Pacing Guides – Alabama Courses of Study should be utilized for all subjects taught. Pacing guides have already been developed for reading and math. </a:t>
            </a:r>
            <a:endParaRPr b="0" lang="en-US" sz="32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on Plans -</a:t>
            </a:r>
            <a:r>
              <a:rPr b="0" lang="en-US" sz="2800" spc="-1" strike="noStrike">
                <a:solidFill>
                  <a:srgbClr val="ffffff"/>
                </a:solidFill>
                <a:latin typeface="Garamond"/>
              </a:rPr>
              <a:t>Plans should be detailed to the point that a substitute could follow them and have a productive day. </a:t>
            </a:r>
            <a:r>
              <a:rPr b="1" lang="en-US" sz="2800" spc="-1" strike="noStrike">
                <a:solidFill>
                  <a:srgbClr val="ffffff"/>
                </a:solidFill>
                <a:latin typeface="Garamond"/>
              </a:rPr>
              <a:t>Lesson plans are required to be e-mailed to both administrators on Friday by 3:30 of the preceding week. Also, lesson plans for all subjects that you teach should be available on STI on Friday by 3:30 p.m. for the following week. </a:t>
            </a:r>
            <a:endParaRPr b="0" lang="en-US" sz="2800" spc="-1" strike="noStrike">
              <a:solidFill>
                <a:srgbClr val="ffffff"/>
              </a:solidFill>
              <a:latin typeface="Garamond"/>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20:46:23Z</dcterms:created>
  <dc:creator>Academy for Science and Foreign Language</dc:creator>
  <dc:description/>
  <dc:language>en-US</dc:language>
  <cp:lastModifiedBy>tsummerville</cp:lastModifiedBy>
  <dcterms:modified xsi:type="dcterms:W3CDTF">2009-08-05T12:34:43Z</dcterms:modified>
  <cp:revision>45</cp:revision>
  <dc:subject/>
  <dc:title>Slide 1</dc:title>
</cp:coreProperties>
</file>